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6136-D4AE-440F-BEED-4F70ECD0AE2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Temperature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what body temperature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this is usually higher than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if your body temperature 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,you are 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sweating decreases bod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3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at body temperature i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this is usually higher than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f your body temperature i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rmal,you are il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sweating decreases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Powerpoint is hosted on www.worldofteaching.co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ease visit for 100’s more free powerpoi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aining Body Temperatur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ain contro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we are hot,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in mak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bod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ea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is coo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we are cold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ain makes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shiver and th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s us heat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intaining Body Temperature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rain control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we are hot,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ain mak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wea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this cool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 dow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we are cold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rain makes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shiver and thi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kes us heat u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4                     Diet and Alcohol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what makes up a healthy di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ating too much can causes hear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e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ating causes anorexia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how alcohol consumption can affe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4                     Diet and Alcohol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at makes up a healthy di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eating too much can causes hear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eating causes anorexia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how alcohol consumption can affec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havio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et and Alcohol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how many alcohol units are contained 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drin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how many alcohol units are in 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tle of alcoh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information on alcohol in graph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4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et and Alcohol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how many alcohol units are contained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mon drink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lculate how many alcohol units are in 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ttle of alcoh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esent information on alcohol in graph for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should contain the following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should contain the following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ei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tami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era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2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foods that are quite high in energ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good for storing energy during wint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t is nee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 many fat based foods can make peopl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e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an also cause cholesterol in the vein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ies which cause them to fur up like blockages 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2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foods that are quite high in energ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te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are good for storing energy during winte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it is need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o many fat based foods can make peopl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be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can also cause cholesterol in the vein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teries which cause them to fur up like blockages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ip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starch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s like brea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atoes and past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a goo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 of energ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alories fro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m can be burned off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ck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ot they appear as fat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3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starch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s like brea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tatoes and pasta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are a goo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urce of energy 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calories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m can be burned of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quickl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not they appear as fat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used for the growth and repair of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tiss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 deficiency can result in malnutri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supplies or alternatives give us ou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ly of prote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4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ei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used for the growth and repair of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issu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ein deficiency can result in malnutri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at supplies or alternatives give us ou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pply of protei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5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consist of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, B ,C ,D E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and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f these pla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parts in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 of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icture shown is tha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bones of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one with ricket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ccurs through lack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tamin 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5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tamin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consist o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tamins A, B ,C ,D E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and 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l of these pla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erent parts in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 of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icture shown is tha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f the bones o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meone with ricket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ch occurs through lack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f vitamin 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6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salts that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ed by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calciu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milk for bon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lons and oth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 conta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l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6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era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salts that ar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eded by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example,calciu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om milk for bon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row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lons and othe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uits conta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era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l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od Tri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y f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and fatty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 and 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chy f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le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le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m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ood Triangl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gary foo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ats and fatty aci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getables and frui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archy foo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 leas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 leas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 mos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Temperature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ivering increases body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supplies the body with energy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ain body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hes help stop heat lo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bility to maintain body temperatu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how to save a person suffering fro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3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ivering increases 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supplies the body with energy 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intain 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lothes help stop heat lo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ability to maintain body temperatur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us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how to save a person suffering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ing too mu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bodies burn up the food we 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ives us energy for our muscles to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re our muscles work,the more energ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ood we ne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at more food than we need,the extra 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ed into f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ing fat is unhealthy and affects our hea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ing too muc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bodies burn up the food we ea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gives us energy for our muscles to wor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re our muscles work,the more energ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food we ne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we eat more food than we need,the extra i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urned into fa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ing fat is unhealthy and affects our hear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ing too much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needs mo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eats more fo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would you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ct to b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er?Expl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would it be ba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erson to b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we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ould they do to lo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energy K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,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,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,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ea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nee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ing too much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o needs mor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o eats more food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o would you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pect to b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tter?Expla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y would it be ba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person to b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verweigh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could they do to los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igh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energy Kj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a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,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5,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0,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eat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need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rex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serious eating disorder which mainl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ects young gir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lated to bulimia,another eating dis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rexics believe they need to lose weight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ally diet to do 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psychological problem and in extrem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es can lead to d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rexi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a serious eating disorder which mainl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ffects young gir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is related to bulimia,another eating disord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rexics believe they need to lose weight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tinually diet to do so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is a psychological problem and in extrem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ses can lead to dea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ffects of alcohol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is a dr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ffects your brain by block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ssages to your sen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slows down your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is measured in un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unit of alcohol consists of  a) a small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sky, b)a glass of wine, c) a half pint of beer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affects of alcohol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is a dru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ffects your brain by blocking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ssages to your sens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slows down your reactio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is measured in uni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e unit of alcohol consists of  a) a small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sky, b)a glass of wine, c) a half pint of beer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ffects of alcohol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lead to problems at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lead to mood change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lead to money trou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affect personal safe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lead to death in extrem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effects of alcohol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lead to problems at wor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lead to mood changes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press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lead to money troubl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affect personal safet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lead to death in extrem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s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ness and Heal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end of this unit you should 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name 3 aspects of fit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regular exercise improves fit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describe the differences between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aspects of fit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5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 and Heal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name 3 aspects of 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regular exercise improves 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describe the differences between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 aspects of 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ness and health 1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mina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be described as having staying po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rts in which you need to have stamin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 swimming ,jogging , rowing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art and lungs need to be in good work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very rate is usually quick from exerci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 and health 1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amina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can be described as having staying pow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orts in which you need to have stamin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clude swimming ,jogging , rowing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ycl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eart and lungs need to be in good working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rd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covery rate is usually quick from exerci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ness and health 2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eng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uscles need to be strong and in goo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ing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rts include  weight lifting, rowing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mming and gymnas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 and health 2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reng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uscles need to be strong and in goo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king ord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orts include  weight lifting, rowing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wimming and gymnastic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ness and health 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le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dy can be capable of being moved in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positions without being sti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ts of stretching exercises are needed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 this aspect of fit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rts needing suppleness include dancing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ymnastics, judo, swimming and yog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 and health 3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pple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ody can be capable of being moved in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erent positions without being stiff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ts of stretching exercises are needed 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prove this aspect of 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orts needing suppleness include dancing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ymnastics, judo, swimming and yog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  Blooded Animals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like lizard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not make enough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from their foo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enable them to b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er than thei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 bod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is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s thei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d  Blooded Animals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imals like lizard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not make enough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t from their foo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enable them to b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rmer than thei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ir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 is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e as thei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 Blooded Animals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end to be more active during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ropical fish from the Amazon woul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survive in Scot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d Blooded Animals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tend to be more active during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tropical fish from the Amazon woul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survive in Scotlan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 Blooded Animals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 bloode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lik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mma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 body at 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n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er where the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rm Blooded Animals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rm blood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imals lik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mmal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ee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ir body at 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stan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 n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ter where the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 Blooded Animals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s are warm blooded animal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a constant temperature of 37 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bodies are able to make and lose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lose excess heat by sweating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rm Blooded Animals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umans are warm blooded animals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ave a constant temperature of 37 C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bodies are able to make and lose hea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 can lose excess heat by sweating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r body temperature goes above 37 C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you are suffering from a fe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tend to sweat a lot as the body tries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your temperature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creases in temperature are caused b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ev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your body temperature goes above 37 C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n you are suffering from a fev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tend to sweat a lot as the body tries 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ing your temperature dow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st increases in temperature are caused b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fec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 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happens when the body falls below 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rtain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ody is too low in temperature fo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 long, it can result in d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 mostly occurs with elderl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 1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happens when the body falls below 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ertain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the body is too low in temperature fo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o long, it can result in dea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 mostly occurs with elderl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 2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llowing are signs of hypothermia and actions to be t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urring of spee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ally ina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in becom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 to rea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t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usual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ap in war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nk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a war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eet drink bu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coh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,4,5 Increase roo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heating slow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 2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ollowing are signs of hypothermia and actions to be tak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urring of speec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ysically inactiv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kin becom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t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 to reac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ntall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usual behavio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ap in war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ank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ive a war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weet drink bu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alcoh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,4,5 Increase ro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heating slowl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CA41-FF9F-4902-A984-88259E7D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723A-8634-49D0-8F40-A9239B59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6FDC-1124-402B-945A-80C0A438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E083-F944-4A22-8B8F-2C8A46A6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92D5-5069-48EE-AAF3-3D8B2493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C930-9769-4ECA-84D7-9EE65A74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E408-916C-43C4-B57D-672401C3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7F7B-AE0E-42C0-B8EC-90973913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0ABD-E696-4057-A341-30261E91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26C2-ABC2-48DF-A9B2-E41167F0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15D7-2811-4FE5-8528-8D86E8C5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E80F-792E-4CA2-B26F-D8B1984A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4664-DEA4-4480-88CC-9EE89C61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07E2-358E-4BAE-9F66-E17CB784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93F3-5D99-40DA-B5D7-C402F63A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C24D-812D-4ACA-A706-222E819C9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3771-64A8-4E95-9E37-24EF1BFF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F532-96AC-4683-BC66-BC23C7EF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6FFA-2620-44D4-BB27-275BE6B0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7F4C-499A-42FA-94A7-9A5190FA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5F53-871C-4D3D-AA93-88AB8253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6A94-FA8C-45FF-9D5A-6761BEC2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1800-8DA2-4B8B-A915-14E8E8DA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9823-C55F-4880-92F5-AE8092DB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1028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1029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1030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1031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1032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1033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34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035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036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037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038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039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040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041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042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043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1044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1045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1046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1047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1F61-FF5D-44DF-BAC4-46DF7C78AA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2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5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1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17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B42C-A245-4FE6-AC05-96D27D9B80D0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3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Body Temperature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what body temperature 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this is usually higher than th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if your body temperature i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normal,you are il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sweating decreases bod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Maintaining Body Temperature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brain control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en we are hot,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rain make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our body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wea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nd this cool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us dow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en we are cold,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brain makes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ody shiver and thi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akes us heat up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4                     Diet and Alcohol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802720" cy="39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what makes up a healthy die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eating too much can causes hear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eating causes anorexia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how alcohol consumption can affec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havio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4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Diet and Alcohol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how many alcohol units are contained i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ommon drink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lculate how many alcohol units are in a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ottle of alcoho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esent information on alcohol in graph for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 balanced diet should contain the following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Fa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rbohydr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otei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Vitami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inera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A Balanced Diet 2.</a:t>
            </a:r>
            <a:br>
              <a:rPr sz="2400"/>
            </a:b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Fa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These are foods that are quite high in energy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conten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They are good for storing energy during winter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when it is needed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Too many fat based foods can make people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obes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They can also cause cholesterol in the veins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and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arteries which cause them to fur up like blockages in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pipe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3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Carbohydrat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se are starchy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foods like bread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potatoes and pasta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y are a good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source of energy 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 calories from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m can be burned off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quickl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If not they appear as fat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4659480" y="2116080"/>
            <a:ext cx="4371840" cy="41353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4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Protei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8802720" cy="38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se are used for the growth and repair of   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ody tissu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otein deficiency can result in malnutri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eat supplies or alternatives give us our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upply of protei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5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Vitamins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4371840" cy="41353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se consist of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vitamins A, B ,C ,D E,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A and K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All of these play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different parts in the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health of the bod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 picture shown is that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of the bones of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someone with rickets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which occurs through lack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of vitamin 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6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Mineral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se are salts that ar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needed by the bod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or example,calciu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rom milk for bon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growt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lons and other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ruits contai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ineral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l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4800600" y="2552760"/>
            <a:ext cx="3886200" cy="347184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Food Triangl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ugary foo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ats and fatty aci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Vegetables and fru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tarchy foo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Line 5"/>
          <p:cNvSpPr/>
          <p:nvPr/>
        </p:nvSpPr>
        <p:spPr>
          <a:xfrm flipH="1">
            <a:off x="5181120" y="2743200"/>
            <a:ext cx="1600200" cy="28195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5943600" y="4191120"/>
            <a:ext cx="15238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5562720" y="4952880"/>
            <a:ext cx="22860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Line 17"/>
          <p:cNvSpPr/>
          <p:nvPr/>
        </p:nvSpPr>
        <p:spPr>
          <a:xfrm>
            <a:off x="8534520" y="2743200"/>
            <a:ext cx="0" cy="28195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Text Box 20"/>
          <p:cNvSpPr/>
          <p:nvPr/>
        </p:nvSpPr>
        <p:spPr>
          <a:xfrm>
            <a:off x="7984080" y="225108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at lea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Text Box 22"/>
          <p:cNvSpPr/>
          <p:nvPr/>
        </p:nvSpPr>
        <p:spPr>
          <a:xfrm>
            <a:off x="6615360" y="301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6615360" y="362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669132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Text Box 25"/>
          <p:cNvSpPr/>
          <p:nvPr/>
        </p:nvSpPr>
        <p:spPr>
          <a:xfrm>
            <a:off x="6615360" y="491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Line 26"/>
          <p:cNvSpPr/>
          <p:nvPr/>
        </p:nvSpPr>
        <p:spPr>
          <a:xfrm flipV="1">
            <a:off x="8534520" y="5181120"/>
            <a:ext cx="304560" cy="3812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66720" y="2057040"/>
            <a:ext cx="4876920" cy="42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at lea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Line 29"/>
          <p:cNvSpPr/>
          <p:nvPr/>
        </p:nvSpPr>
        <p:spPr>
          <a:xfrm flipH="1" flipV="1">
            <a:off x="8152920" y="5181120"/>
            <a:ext cx="381240" cy="3812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Text Box 30"/>
          <p:cNvSpPr/>
          <p:nvPr/>
        </p:nvSpPr>
        <p:spPr>
          <a:xfrm>
            <a:off x="7832520" y="575640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t mo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Line 32"/>
          <p:cNvSpPr/>
          <p:nvPr/>
        </p:nvSpPr>
        <p:spPr>
          <a:xfrm>
            <a:off x="5257800" y="5486400"/>
            <a:ext cx="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Line 33"/>
          <p:cNvSpPr/>
          <p:nvPr/>
        </p:nvSpPr>
        <p:spPr>
          <a:xfrm>
            <a:off x="6781680" y="2743200"/>
            <a:ext cx="1219320" cy="27432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Line 35"/>
          <p:cNvSpPr/>
          <p:nvPr/>
        </p:nvSpPr>
        <p:spPr>
          <a:xfrm>
            <a:off x="6400800" y="3429000"/>
            <a:ext cx="6858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Line 36"/>
          <p:cNvSpPr/>
          <p:nvPr/>
        </p:nvSpPr>
        <p:spPr>
          <a:xfrm>
            <a:off x="5181480" y="5486400"/>
            <a:ext cx="289584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3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Body Temperature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hivering increases body 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Food supplies the body with energy to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aintain body 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lothes help stop heat lo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nability to maintain body temperatur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use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ypothermi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how to save a person suffering from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ypothermi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ating too much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ur bodies burn up the food we e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gives us energy for our muscles to wor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more our muscles work,the more energy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food we ne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we eat more food than we need,the extra i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urned into f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ing fat is unhealthy and affects our hear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ating too much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o needs more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od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o eats more food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o would you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pect to be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tter?Explai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y would it be bad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s person to be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verweight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could they do to lose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eight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72160" y="2209680"/>
            <a:ext cx="437184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od energy Kj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Line 6"/>
          <p:cNvSpPr/>
          <p:nvPr/>
        </p:nvSpPr>
        <p:spPr>
          <a:xfrm>
            <a:off x="6172200" y="2819520"/>
            <a:ext cx="0" cy="28954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Line 7"/>
          <p:cNvSpPr/>
          <p:nvPr/>
        </p:nvSpPr>
        <p:spPr>
          <a:xfrm>
            <a:off x="6172200" y="5715000"/>
            <a:ext cx="2438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Line 8"/>
          <p:cNvSpPr/>
          <p:nvPr/>
        </p:nvSpPr>
        <p:spPr>
          <a:xfrm flipV="1">
            <a:off x="6400800" y="3352680"/>
            <a:ext cx="0" cy="23623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6400800" y="335268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Line 13"/>
          <p:cNvSpPr/>
          <p:nvPr/>
        </p:nvSpPr>
        <p:spPr>
          <a:xfrm>
            <a:off x="6705720" y="3352680"/>
            <a:ext cx="0" cy="23623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Line 15"/>
          <p:cNvSpPr/>
          <p:nvPr/>
        </p:nvSpPr>
        <p:spPr>
          <a:xfrm flipV="1">
            <a:off x="6934320" y="3123720"/>
            <a:ext cx="0" cy="25909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6934320" y="3124080"/>
            <a:ext cx="30456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Line 20"/>
          <p:cNvSpPr/>
          <p:nvPr/>
        </p:nvSpPr>
        <p:spPr>
          <a:xfrm>
            <a:off x="7238880" y="3124080"/>
            <a:ext cx="0" cy="2514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Line 22"/>
          <p:cNvSpPr/>
          <p:nvPr/>
        </p:nvSpPr>
        <p:spPr>
          <a:xfrm>
            <a:off x="7238880" y="5562720"/>
            <a:ext cx="0" cy="1522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Line 23"/>
          <p:cNvSpPr/>
          <p:nvPr/>
        </p:nvSpPr>
        <p:spPr>
          <a:xfrm flipV="1">
            <a:off x="7467480" y="3962520"/>
            <a:ext cx="0" cy="17524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Line 24"/>
          <p:cNvSpPr/>
          <p:nvPr/>
        </p:nvSpPr>
        <p:spPr>
          <a:xfrm>
            <a:off x="7467480" y="396252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Line 25"/>
          <p:cNvSpPr/>
          <p:nvPr/>
        </p:nvSpPr>
        <p:spPr>
          <a:xfrm>
            <a:off x="7772400" y="3962520"/>
            <a:ext cx="0" cy="17524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Line 26"/>
          <p:cNvSpPr/>
          <p:nvPr/>
        </p:nvSpPr>
        <p:spPr>
          <a:xfrm flipV="1">
            <a:off x="8001000" y="3505320"/>
            <a:ext cx="0" cy="22096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Line 29"/>
          <p:cNvSpPr/>
          <p:nvPr/>
        </p:nvSpPr>
        <p:spPr>
          <a:xfrm>
            <a:off x="8001000" y="350532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Line 31"/>
          <p:cNvSpPr/>
          <p:nvPr/>
        </p:nvSpPr>
        <p:spPr>
          <a:xfrm>
            <a:off x="8305920" y="3505320"/>
            <a:ext cx="0" cy="22096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Text Box 33"/>
          <p:cNvSpPr/>
          <p:nvPr/>
        </p:nvSpPr>
        <p:spPr>
          <a:xfrm>
            <a:off x="6233760" y="56800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l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Text Box 34"/>
          <p:cNvSpPr/>
          <p:nvPr/>
        </p:nvSpPr>
        <p:spPr>
          <a:xfrm>
            <a:off x="7452000" y="56800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Line 36"/>
          <p:cNvSpPr/>
          <p:nvPr/>
        </p:nvSpPr>
        <p:spPr>
          <a:xfrm flipH="1">
            <a:off x="6019560" y="3124080"/>
            <a:ext cx="152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Line 37"/>
          <p:cNvSpPr/>
          <p:nvPr/>
        </p:nvSpPr>
        <p:spPr>
          <a:xfrm flipH="1">
            <a:off x="6019560" y="4419720"/>
            <a:ext cx="152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Line 38"/>
          <p:cNvSpPr/>
          <p:nvPr/>
        </p:nvSpPr>
        <p:spPr>
          <a:xfrm flipH="1">
            <a:off x="6019560" y="5105520"/>
            <a:ext cx="152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Line 39"/>
          <p:cNvSpPr/>
          <p:nvPr/>
        </p:nvSpPr>
        <p:spPr>
          <a:xfrm flipH="1">
            <a:off x="6019560" y="3809880"/>
            <a:ext cx="152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Text Box 40"/>
          <p:cNvSpPr/>
          <p:nvPr/>
        </p:nvSpPr>
        <p:spPr>
          <a:xfrm>
            <a:off x="5015160" y="286056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0,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Text Box 41"/>
          <p:cNvSpPr/>
          <p:nvPr/>
        </p:nvSpPr>
        <p:spPr>
          <a:xfrm>
            <a:off x="5091120" y="354636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,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Text Box 42"/>
          <p:cNvSpPr/>
          <p:nvPr/>
        </p:nvSpPr>
        <p:spPr>
          <a:xfrm>
            <a:off x="5091120" y="415620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0,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Text Box 44"/>
          <p:cNvSpPr/>
          <p:nvPr/>
        </p:nvSpPr>
        <p:spPr>
          <a:xfrm>
            <a:off x="5167440" y="4842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5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Line 46"/>
          <p:cNvSpPr/>
          <p:nvPr/>
        </p:nvSpPr>
        <p:spPr>
          <a:xfrm flipH="1">
            <a:off x="6934320" y="3276720"/>
            <a:ext cx="304560" cy="304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Line 47"/>
          <p:cNvSpPr/>
          <p:nvPr/>
        </p:nvSpPr>
        <p:spPr>
          <a:xfrm>
            <a:off x="6934320" y="358128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Line 48"/>
          <p:cNvSpPr/>
          <p:nvPr/>
        </p:nvSpPr>
        <p:spPr>
          <a:xfrm flipH="1">
            <a:off x="6934320" y="3733920"/>
            <a:ext cx="304560" cy="304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Line 49"/>
          <p:cNvSpPr/>
          <p:nvPr/>
        </p:nvSpPr>
        <p:spPr>
          <a:xfrm>
            <a:off x="6934320" y="403848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Line 50"/>
          <p:cNvSpPr/>
          <p:nvPr/>
        </p:nvSpPr>
        <p:spPr>
          <a:xfrm flipH="1">
            <a:off x="6933960" y="4267080"/>
            <a:ext cx="2286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Line 51"/>
          <p:cNvSpPr/>
          <p:nvPr/>
        </p:nvSpPr>
        <p:spPr>
          <a:xfrm>
            <a:off x="6934320" y="449568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Line 55"/>
          <p:cNvSpPr/>
          <p:nvPr/>
        </p:nvSpPr>
        <p:spPr>
          <a:xfrm flipH="1">
            <a:off x="6934320" y="464832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Line 56"/>
          <p:cNvSpPr/>
          <p:nvPr/>
        </p:nvSpPr>
        <p:spPr>
          <a:xfrm>
            <a:off x="6934320" y="487692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Line 57"/>
          <p:cNvSpPr/>
          <p:nvPr/>
        </p:nvSpPr>
        <p:spPr>
          <a:xfrm flipH="1">
            <a:off x="6934320" y="5181480"/>
            <a:ext cx="304560" cy="15264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Line 58"/>
          <p:cNvSpPr/>
          <p:nvPr/>
        </p:nvSpPr>
        <p:spPr>
          <a:xfrm>
            <a:off x="6934320" y="5334120"/>
            <a:ext cx="304560" cy="304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Line 59"/>
          <p:cNvSpPr/>
          <p:nvPr/>
        </p:nvSpPr>
        <p:spPr>
          <a:xfrm>
            <a:off x="8001000" y="3657600"/>
            <a:ext cx="30492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Line 60"/>
          <p:cNvSpPr/>
          <p:nvPr/>
        </p:nvSpPr>
        <p:spPr>
          <a:xfrm flipH="1">
            <a:off x="8000640" y="3886200"/>
            <a:ext cx="304920" cy="3049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Line 61"/>
          <p:cNvSpPr/>
          <p:nvPr/>
        </p:nvSpPr>
        <p:spPr>
          <a:xfrm>
            <a:off x="8001000" y="4191120"/>
            <a:ext cx="304920" cy="304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Line 63"/>
          <p:cNvSpPr/>
          <p:nvPr/>
        </p:nvSpPr>
        <p:spPr>
          <a:xfrm flipH="1">
            <a:off x="8000640" y="4495680"/>
            <a:ext cx="30492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Line 64"/>
          <p:cNvSpPr/>
          <p:nvPr/>
        </p:nvSpPr>
        <p:spPr>
          <a:xfrm>
            <a:off x="8001000" y="4724280"/>
            <a:ext cx="30492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Line 65"/>
          <p:cNvSpPr/>
          <p:nvPr/>
        </p:nvSpPr>
        <p:spPr>
          <a:xfrm flipH="1">
            <a:off x="8000640" y="4952880"/>
            <a:ext cx="30492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Line 66"/>
          <p:cNvSpPr/>
          <p:nvPr/>
        </p:nvSpPr>
        <p:spPr>
          <a:xfrm>
            <a:off x="8001000" y="5181480"/>
            <a:ext cx="304920" cy="3049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Text Box 68"/>
          <p:cNvSpPr/>
          <p:nvPr/>
        </p:nvSpPr>
        <p:spPr>
          <a:xfrm>
            <a:off x="5242320" y="621360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od eat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Rectangle 69"/>
          <p:cNvSpPr/>
          <p:nvPr/>
        </p:nvSpPr>
        <p:spPr>
          <a:xfrm>
            <a:off x="6858000" y="6324480"/>
            <a:ext cx="228600" cy="3049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Line 70"/>
          <p:cNvSpPr/>
          <p:nvPr/>
        </p:nvSpPr>
        <p:spPr>
          <a:xfrm>
            <a:off x="6858000" y="6324480"/>
            <a:ext cx="2286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Line 71"/>
          <p:cNvSpPr/>
          <p:nvPr/>
        </p:nvSpPr>
        <p:spPr>
          <a:xfrm flipH="1">
            <a:off x="6857640" y="6324480"/>
            <a:ext cx="15228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Text Box 72"/>
          <p:cNvSpPr/>
          <p:nvPr/>
        </p:nvSpPr>
        <p:spPr>
          <a:xfrm>
            <a:off x="7224120" y="621360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od need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Rectangle 74"/>
          <p:cNvSpPr/>
          <p:nvPr/>
        </p:nvSpPr>
        <p:spPr>
          <a:xfrm>
            <a:off x="8915400" y="6248520"/>
            <a:ext cx="228600" cy="38088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norexia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is a serious eating disorder which mainly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ffects young gir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is related to bulimia,another eating disord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orexics believe they need to lose weight a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tinually diet to do s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is a psychological problem and in extrem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ses can lead to deat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affects of alcohol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is a dru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ffects your brain by blocking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ssages to your sens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slows down your reactio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is measured in uni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ne unit of alcohol consists of  a) a small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isky, b)a glass of wine, c) a half pint of beer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effects of alcohol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lead to problems at wor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lead to mood changes a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press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lead to money troub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affect personal safe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lead to death in extrem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s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ealthy Bodies Unit 5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tness and Health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y the end of this unit you should 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 able to name 3 aspects of 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that regular exercise improves 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 able to describe the differences between th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 aspects of 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tness and health 1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tamina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can be described as having staying pow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orts in which you need to have stamina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clude swimming ,jogging , rowing a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ycl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heart and lungs need to be in good working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rd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covery rate is usually quick from exerci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tness and health 2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trength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muscles need to be strong and in goo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orking ord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orts include  weight lifting, rowing,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wimming and gymnastic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tness and health 3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upplenes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body can be capable of being moved into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fferent positions without being stiff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ts of stretching exercises are needed to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mprove this aspect of 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orts needing suppleness include dancing,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ymnastics, judo, swimming and yog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Cold  Blooded Animals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nimals like lizard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cannot make enough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heat from their food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o enable them to b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armer than their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ir body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emperature is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ame as their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Cold Blooded Animals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y tend to be more active during th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da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 tropical fish from the Amazon woul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not survive in Scotlan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Warm Blooded Animals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arm blooded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nimals lik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ammal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keep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ir body at a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constan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emperature no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atter where they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r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Warm Blooded Animals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umans are warm blooded animals an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ave a constant temperature of 37 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Our bodies are able to make and lose he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e can lose excess heat by sweating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Fev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f your body temperature goes above 37 C,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n you are suffering from a fev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You tend to sweat a lot as the body tries to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ring your temperature dow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ost increases in temperature are caused b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nfec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ypothermia 1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is happens when the body falls below a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ertain 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f the body is too low in temperature for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oo long, it can result in deat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ypothermia mostly occurs with elderl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eopl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ypothermia 2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following are signs of hypothermia and actions to be take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2590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lurring of speec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Physically inactiv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kin become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it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low to reac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ntall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Unusual behavio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rap in war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lanke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Give a war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weet drink bu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NOT alcoho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,4,5 Increase roo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  heating slowl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5T14:30:48Z</dcterms:created>
  <dc:creator>Catherine</dc:creator>
  <dc:description>Cold  Blooded Animals 1.</dc:description>
  <cp:keywords>Cold  Blooded Animals 1.</cp:keywords>
  <dc:language>en-US</dc:language>
  <cp:lastModifiedBy>LEGION2</cp:lastModifiedBy>
  <dcterms:modified xsi:type="dcterms:W3CDTF">2016-01-14T09:35:29Z</dcterms:modified>
  <cp:revision>22</cp:revision>
  <dc:subject>Cold  Blooded Animals 1.</dc:subject>
  <dc:title>Cold  Blooded Animals 1.</dc:title>
</cp:coreProperties>
</file>